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8793-85BF-4470-BE76-992F98F7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C65-93D9-4D36-9681-C774888B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8788-04A7-4989-880B-07C36D2E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483-4920-4AA9-85B7-E52A1907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2B4F-9832-4098-AE73-04A0A736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D9DD-CE7A-4AB4-AA95-78A6A661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D55-858C-4C1F-BB01-46C3BF43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548C-9B7F-4FB7-8DFB-22FB57F3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1BA9-D860-4BE9-A6F0-6C3C65B3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F533-7DFC-474C-9DCB-E889F53B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8B0E-2261-43D4-8012-25EBA158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2F3-83F7-4330-B07A-F608D98C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D3FF-802B-4538-BAE0-0A087FDB6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7.jpeg"/><Relationship Id="rId4" Type="http://schemas.openxmlformats.org/officeDocument/2006/relationships/slide" Target="slide5.xml"/><Relationship Id="rId5" Type="http://schemas.openxmlformats.org/officeDocument/2006/relationships/image" Target="../media/image8.jpeg"/><Relationship Id="rId6" Type="http://schemas.openxmlformats.org/officeDocument/2006/relationships/slide" Target="slide6.xml"/><Relationship Id="rId7" Type="http://schemas.openxmlformats.org/officeDocument/2006/relationships/image" Target="../media/image9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12.jpeg"/><Relationship Id="rId4" Type="http://schemas.openxmlformats.org/officeDocument/2006/relationships/slide" Target="slide8.xml"/><Relationship Id="rId5" Type="http://schemas.openxmlformats.org/officeDocument/2006/relationships/image" Target="../media/image13.jpeg"/><Relationship Id="rId6" Type="http://schemas.openxmlformats.org/officeDocument/2006/relationships/slide" Target="slide8.xml"/><Relationship Id="rId7" Type="http://schemas.openxmlformats.org/officeDocument/2006/relationships/image" Target="../media/image14.jpe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1484280"/>
            <a:ext cx="784836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ff0000"/>
                    </a:gs>
                    <a:gs pos="100000">
                      <a:srgbClr val="0080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кторин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50000">
                    <a:srgbClr val="ff0000"/>
                  </a:gs>
                  <a:gs pos="100000">
                    <a:srgbClr val="0080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ff0000"/>
                    </a:gs>
                    <a:gs pos="100000">
                      <a:srgbClr val="0080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правилам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50000">
                    <a:srgbClr val="ff0000"/>
                  </a:gs>
                  <a:gs pos="100000">
                    <a:srgbClr val="0080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ff0000"/>
                    </a:gs>
                    <a:gs pos="100000">
                      <a:srgbClr val="0080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рожного движен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50000">
                    <a:srgbClr val="ff0000"/>
                  </a:gs>
                  <a:gs pos="100000">
                    <a:srgbClr val="0080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11280" y="765000"/>
            <a:ext cx="5362560" cy="228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машинах здесь, друзья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хать никому нельзя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жно ехать, знайте, дети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олько на 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3789360"/>
            <a:ext cx="1800360" cy="1604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635280" y="450864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659640" y="371628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7308720" y="1125360"/>
            <a:ext cx="863640" cy="15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 rot="5400000">
            <a:off x="1438560" y="3032640"/>
            <a:ext cx="612000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вер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6732720" y="5877000"/>
            <a:ext cx="2160360" cy="790560"/>
          </a:xfrm>
          <a:prstGeom prst="flowChartAlternateProcess">
            <a:avLst/>
          </a:prstGeom>
          <a:gradFill rotWithShape="0">
            <a:gsLst>
              <a:gs pos="0">
                <a:srgbClr val="5e9eff">
                  <a:alpha val="80392"/>
                </a:srgbClr>
              </a:gs>
              <a:gs pos="50000">
                <a:srgbClr val="ffebfa"/>
              </a:gs>
              <a:gs pos="100000">
                <a:srgbClr val="5e9eff">
                  <a:alpha val="8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609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250920" y="5877000"/>
            <a:ext cx="2160360" cy="790560"/>
          </a:xfrm>
          <a:prstGeom prst="flowChartAlternateProcess">
            <a:avLst/>
          </a:prstGeom>
          <a:gradFill rotWithShape="0">
            <a:gsLst>
              <a:gs pos="0">
                <a:srgbClr val="5e9eff">
                  <a:alpha val="80392"/>
                </a:srgbClr>
              </a:gs>
              <a:gs pos="50000">
                <a:srgbClr val="ffebfa"/>
              </a:gs>
              <a:gs pos="100000">
                <a:srgbClr val="5e9eff">
                  <a:alpha val="8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609300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12000" y="907920"/>
            <a:ext cx="2879640" cy="1657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 rot="5400000">
            <a:off x="-1872720" y="2529720"/>
            <a:ext cx="5327640" cy="93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bfa"/>
                    </a:gs>
                    <a:gs pos="100000">
                      <a:srgbClr val="5e9eff"/>
                    </a:gs>
                  </a:gsLst>
                  <a:lin ang="8100000"/>
                </a:gradFill>
                <a:latin typeface="Arial"/>
              </a:rPr>
              <a:t>Верно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bfa"/>
                  </a:gs>
                  <a:gs pos="100000">
                    <a:srgbClr val="5e9eff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77080" y="1197000"/>
            <a:ext cx="1008000" cy="936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732720" y="5877000"/>
            <a:ext cx="2160360" cy="790560"/>
          </a:xfrm>
          <a:prstGeom prst="flowChartAlternateProcess">
            <a:avLst/>
          </a:prstGeom>
          <a:gradFill rotWithShape="0">
            <a:gsLst>
              <a:gs pos="0">
                <a:srgbClr val="5e9eff">
                  <a:alpha val="80392"/>
                </a:srgbClr>
              </a:gs>
              <a:gs pos="50000">
                <a:srgbClr val="ffebfa"/>
              </a:gs>
              <a:gs pos="100000">
                <a:srgbClr val="5e9eff">
                  <a:alpha val="8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20000" y="609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250920" y="5877000"/>
            <a:ext cx="2160360" cy="790560"/>
          </a:xfrm>
          <a:prstGeom prst="flowChartAlternateProcess">
            <a:avLst/>
          </a:prstGeom>
          <a:gradFill rotWithShape="0">
            <a:gsLst>
              <a:gs pos="0">
                <a:srgbClr val="5e9eff">
                  <a:alpha val="80392"/>
                </a:srgbClr>
              </a:gs>
              <a:gs pos="50000">
                <a:srgbClr val="ffebfa"/>
              </a:gs>
              <a:gs pos="100000">
                <a:srgbClr val="5e9eff">
                  <a:alpha val="8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609300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26920" y="692280"/>
            <a:ext cx="4448520" cy="228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 не мыл в дороге рук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ел фрукты, овощи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болел и вижу пункт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дицинской 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1280" y="378936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635280" y="458136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659640" y="3789360"/>
            <a:ext cx="1873080" cy="1873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6877080" y="981000"/>
            <a:ext cx="863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 rot="5400000">
            <a:off x="1438560" y="3032640"/>
            <a:ext cx="612000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вер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6732720" y="5877000"/>
            <a:ext cx="2160360" cy="790560"/>
          </a:xfrm>
          <a:prstGeom prst="flowChartAlternateProcess">
            <a:avLst/>
          </a:prstGeom>
          <a:gradFill rotWithShape="0">
            <a:gsLst>
              <a:gs pos="0">
                <a:srgbClr val="5e9eff">
                  <a:alpha val="80392"/>
                </a:srgbClr>
              </a:gs>
              <a:gs pos="50000">
                <a:srgbClr val="ffebfa"/>
              </a:gs>
              <a:gs pos="100000">
                <a:srgbClr val="5e9eff">
                  <a:alpha val="8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0000" y="609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250920" y="5877000"/>
            <a:ext cx="2160360" cy="790560"/>
          </a:xfrm>
          <a:prstGeom prst="flowChartAlternateProcess">
            <a:avLst/>
          </a:prstGeom>
          <a:gradFill rotWithShape="0">
            <a:gsLst>
              <a:gs pos="0">
                <a:srgbClr val="5e9eff">
                  <a:alpha val="80392"/>
                </a:srgbClr>
              </a:gs>
              <a:gs pos="50000">
                <a:srgbClr val="ffebfa"/>
              </a:gs>
              <a:gs pos="100000">
                <a:srgbClr val="5e9eff">
                  <a:alpha val="8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609300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12000" y="907920"/>
            <a:ext cx="2879640" cy="1657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 rot="5400000">
            <a:off x="-1764720" y="2493000"/>
            <a:ext cx="518328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bfa"/>
                    </a:gs>
                    <a:gs pos="100000">
                      <a:srgbClr val="5e9eff"/>
                    </a:gs>
                  </a:gsLst>
                  <a:lin ang="8100000"/>
                </a:gradFill>
                <a:latin typeface="Arial"/>
              </a:rPr>
              <a:t>Верно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bfa"/>
                  </a:gs>
                  <a:gs pos="100000">
                    <a:srgbClr val="5e9eff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77080" y="1197000"/>
            <a:ext cx="1008000" cy="936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6732720" y="5877000"/>
            <a:ext cx="2160360" cy="790560"/>
          </a:xfrm>
          <a:prstGeom prst="flowChartAlternateProcess">
            <a:avLst/>
          </a:prstGeom>
          <a:gradFill rotWithShape="0">
            <a:gsLst>
              <a:gs pos="0">
                <a:srgbClr val="5e9eff">
                  <a:alpha val="80392"/>
                </a:srgbClr>
              </a:gs>
              <a:gs pos="50000">
                <a:srgbClr val="ffebfa"/>
              </a:gs>
              <a:gs pos="100000">
                <a:srgbClr val="5e9eff">
                  <a:alpha val="8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20000" y="609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250920" y="5877000"/>
            <a:ext cx="2160360" cy="790560"/>
          </a:xfrm>
          <a:prstGeom prst="flowChartAlternateProcess">
            <a:avLst/>
          </a:prstGeom>
          <a:gradFill rotWithShape="0">
            <a:gsLst>
              <a:gs pos="0">
                <a:srgbClr val="5e9eff">
                  <a:alpha val="80392"/>
                </a:srgbClr>
              </a:gs>
              <a:gs pos="50000">
                <a:srgbClr val="ffebfa"/>
              </a:gs>
              <a:gs pos="100000">
                <a:srgbClr val="5e9eff">
                  <a:alpha val="8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609300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9640" y="476280"/>
            <a:ext cx="6408720" cy="259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мне делать? Как мне быть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ужно срочно позвонить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лжен знать и ты, и о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этом месте 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3573360"/>
            <a:ext cx="1833480" cy="1833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635280" y="4653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588000" y="357336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7236000" y="1125360"/>
            <a:ext cx="792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 rot="5400000">
            <a:off x="1438560" y="3032640"/>
            <a:ext cx="612000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вер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6732720" y="5877000"/>
            <a:ext cx="2160360" cy="790560"/>
          </a:xfrm>
          <a:prstGeom prst="flowChartAlternateProcess">
            <a:avLst/>
          </a:prstGeom>
          <a:gradFill rotWithShape="0">
            <a:gsLst>
              <a:gs pos="0">
                <a:srgbClr val="5e9eff">
                  <a:alpha val="80392"/>
                </a:srgbClr>
              </a:gs>
              <a:gs pos="50000">
                <a:srgbClr val="ffebfa"/>
              </a:gs>
              <a:gs pos="100000">
                <a:srgbClr val="5e9eff">
                  <a:alpha val="8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20000" y="609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250920" y="5877000"/>
            <a:ext cx="2160360" cy="790560"/>
          </a:xfrm>
          <a:prstGeom prst="flowChartAlternateProcess">
            <a:avLst/>
          </a:prstGeom>
          <a:gradFill rotWithShape="0">
            <a:gsLst>
              <a:gs pos="0">
                <a:srgbClr val="5e9eff">
                  <a:alpha val="80392"/>
                </a:srgbClr>
              </a:gs>
              <a:gs pos="50000">
                <a:srgbClr val="ffebfa"/>
              </a:gs>
              <a:gs pos="100000">
                <a:srgbClr val="5e9eff">
                  <a:alpha val="8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609300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12000" y="907920"/>
            <a:ext cx="2879640" cy="1657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 rot="5400000">
            <a:off x="-1909080" y="2637720"/>
            <a:ext cx="540072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bfa"/>
                    </a:gs>
                    <a:gs pos="100000">
                      <a:srgbClr val="5e9eff"/>
                    </a:gs>
                  </a:gsLst>
                  <a:lin ang="8100000"/>
                </a:gradFill>
                <a:latin typeface="Arial"/>
              </a:rPr>
              <a:t>Верно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bfa"/>
                  </a:gs>
                  <a:gs pos="100000">
                    <a:srgbClr val="5e9eff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77080" y="1197000"/>
            <a:ext cx="1008000" cy="936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6732720" y="5877000"/>
            <a:ext cx="2160360" cy="790560"/>
          </a:xfrm>
          <a:prstGeom prst="flowChartAlternateProcess">
            <a:avLst/>
          </a:prstGeom>
          <a:gradFill rotWithShape="0">
            <a:gsLst>
              <a:gs pos="0">
                <a:srgbClr val="5e9eff">
                  <a:alpha val="80392"/>
                </a:srgbClr>
              </a:gs>
              <a:gs pos="50000">
                <a:srgbClr val="ffebfa"/>
              </a:gs>
              <a:gs pos="100000">
                <a:srgbClr val="5e9eff">
                  <a:alpha val="8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20000" y="609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>
            <a:off x="250920" y="5877000"/>
            <a:ext cx="2160360" cy="790560"/>
          </a:xfrm>
          <a:prstGeom prst="flowChartAlternateProcess">
            <a:avLst/>
          </a:prstGeom>
          <a:gradFill rotWithShape="0">
            <a:gsLst>
              <a:gs pos="0">
                <a:srgbClr val="5e9eff">
                  <a:alpha val="80392"/>
                </a:srgbClr>
              </a:gs>
              <a:gs pos="50000">
                <a:srgbClr val="ffebfa"/>
              </a:gs>
              <a:gs pos="100000">
                <a:srgbClr val="5e9eff">
                  <a:alpha val="8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609300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 rot="19578000">
            <a:off x="1258560" y="1483920"/>
            <a:ext cx="2475000" cy="223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5522000"/>
                </a:gradFill>
                <a:latin typeface="Arial"/>
              </a:rPr>
              <a:t>Всё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5522000"/>
              </a:gradFill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56360" y="5805360"/>
            <a:ext cx="2514600" cy="69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айт «Школа АБ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hkola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bv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920" y="1989000"/>
            <a:ext cx="8642160" cy="4248360"/>
          </a:xfrm>
          <a:prstGeom prst="rect">
            <a:avLst/>
          </a:prstGeom>
          <a:solidFill>
            <a:srgbClr val="96969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Викторина состоит из пяти вопросов-загадок. Нужно отгадать знак дорожного движения, который зашифрован в вопросе и вспомнить как он выгляд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360" y="549360"/>
            <a:ext cx="360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8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ил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008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9640" y="5805360"/>
            <a:ext cx="2160720" cy="790560"/>
          </a:xfrm>
          <a:prstGeom prst="flowChartAlternateProcess">
            <a:avLst/>
          </a:prstGeom>
          <a:gradFill rotWithShape="0">
            <a:gsLst>
              <a:gs pos="0">
                <a:srgbClr val="5e9eff">
                  <a:alpha val="80392"/>
                </a:srgbClr>
              </a:gs>
              <a:gs pos="50000">
                <a:srgbClr val="ffebfa"/>
              </a:gs>
              <a:gs pos="100000">
                <a:srgbClr val="5e9eff">
                  <a:alpha val="8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6021360"/>
            <a:ext cx="16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16720" y="5805360"/>
            <a:ext cx="2160720" cy="790560"/>
          </a:xfrm>
          <a:prstGeom prst="flowChartAlternateProcess">
            <a:avLst/>
          </a:prstGeom>
          <a:gradFill rotWithShape="0">
            <a:gsLst>
              <a:gs pos="0">
                <a:srgbClr val="5e9eff">
                  <a:alpha val="80392"/>
                </a:srgbClr>
              </a:gs>
              <a:gs pos="50000">
                <a:srgbClr val="ffebfa"/>
              </a:gs>
              <a:gs pos="100000">
                <a:srgbClr val="5e9eff">
                  <a:alpha val="8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602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11280" y="692280"/>
            <a:ext cx="583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омера вопросов: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40000" y="4581360"/>
            <a:ext cx="86364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211640" y="2708280"/>
            <a:ext cx="863640" cy="15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84720" y="4221000"/>
            <a:ext cx="863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67640" y="2781360"/>
            <a:ext cx="792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71640" y="2781360"/>
            <a:ext cx="504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4360" y="1125360"/>
            <a:ext cx="5819760" cy="1714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м знакомые полоск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c3d91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нают дети, знает взрослый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c3d91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ту сторону ведёт - 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c3d91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64000" y="4365720"/>
            <a:ext cx="1871640" cy="183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11280" y="3716280"/>
            <a:ext cx="2016000" cy="1797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72360" y="3645000"/>
            <a:ext cx="1782720" cy="1805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7524720" y="1268280"/>
            <a:ext cx="504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 rot="5400000">
            <a:off x="1438560" y="3032640"/>
            <a:ext cx="612000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вер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6732720" y="5877000"/>
            <a:ext cx="2160360" cy="790560"/>
          </a:xfrm>
          <a:prstGeom prst="flowChartAlternateProcess">
            <a:avLst/>
          </a:prstGeom>
          <a:gradFill rotWithShape="0">
            <a:gsLst>
              <a:gs pos="0">
                <a:srgbClr val="5e9eff">
                  <a:alpha val="80392"/>
                </a:srgbClr>
              </a:gs>
              <a:gs pos="50000">
                <a:srgbClr val="ffebfa"/>
              </a:gs>
              <a:gs pos="100000">
                <a:srgbClr val="5e9eff">
                  <a:alpha val="8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20000" y="609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250920" y="5877000"/>
            <a:ext cx="2160360" cy="790560"/>
          </a:xfrm>
          <a:prstGeom prst="flowChartAlternateProcess">
            <a:avLst/>
          </a:prstGeom>
          <a:gradFill rotWithShape="0">
            <a:gsLst>
              <a:gs pos="0">
                <a:srgbClr val="5e9eff">
                  <a:alpha val="80392"/>
                </a:srgbClr>
              </a:gs>
              <a:gs pos="50000">
                <a:srgbClr val="ffebfa"/>
              </a:gs>
              <a:gs pos="100000">
                <a:srgbClr val="5e9eff">
                  <a:alpha val="8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609300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12000" y="907920"/>
            <a:ext cx="2879640" cy="1657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 rot="5400000">
            <a:off x="-1728000" y="2456640"/>
            <a:ext cx="518328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bfa"/>
                    </a:gs>
                    <a:gs pos="100000">
                      <a:srgbClr val="5e9eff"/>
                    </a:gs>
                  </a:gsLst>
                  <a:lin ang="8100000"/>
                </a:gradFill>
                <a:latin typeface="Arial"/>
              </a:rPr>
              <a:t>Верно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bfa"/>
                  </a:gs>
                  <a:gs pos="100000">
                    <a:srgbClr val="5e9eff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1197000"/>
            <a:ext cx="1008000" cy="936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6804000" y="5877000"/>
            <a:ext cx="2160720" cy="790560"/>
          </a:xfrm>
          <a:prstGeom prst="flowChartAlternateProcess">
            <a:avLst/>
          </a:prstGeom>
          <a:gradFill rotWithShape="0">
            <a:gsLst>
              <a:gs pos="0">
                <a:srgbClr val="5e9eff">
                  <a:alpha val="80392"/>
                </a:srgbClr>
              </a:gs>
              <a:gs pos="50000">
                <a:srgbClr val="ffebfa"/>
              </a:gs>
              <a:gs pos="100000">
                <a:srgbClr val="5e9eff">
                  <a:alpha val="8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91280" y="609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250920" y="5877000"/>
            <a:ext cx="2160360" cy="790560"/>
          </a:xfrm>
          <a:prstGeom prst="flowChartAlternateProcess">
            <a:avLst/>
          </a:prstGeom>
          <a:gradFill rotWithShape="0">
            <a:gsLst>
              <a:gs pos="0">
                <a:srgbClr val="5e9eff">
                  <a:alpha val="80392"/>
                </a:srgbClr>
              </a:gs>
              <a:gs pos="50000">
                <a:srgbClr val="ffebfa"/>
              </a:gs>
              <a:gs pos="100000">
                <a:srgbClr val="5e9eff">
                  <a:alpha val="8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609300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39640" y="692280"/>
            <a:ext cx="5362560" cy="228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й, водитель, осторожно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хать быстро невозможно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нают люди все на свете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этом месте ходят 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4005360"/>
            <a:ext cx="1727280" cy="1539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635280" y="4797360"/>
            <a:ext cx="1728720" cy="1541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59640" y="3933720"/>
            <a:ext cx="1728720" cy="1541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7236000" y="1052640"/>
            <a:ext cx="86328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 rot="5400000">
            <a:off x="1438560" y="3032640"/>
            <a:ext cx="612000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вер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6732720" y="5878440"/>
            <a:ext cx="2160360" cy="790560"/>
          </a:xfrm>
          <a:prstGeom prst="flowChartAlternateProcess">
            <a:avLst/>
          </a:prstGeom>
          <a:gradFill rotWithShape="0">
            <a:gsLst>
              <a:gs pos="0">
                <a:srgbClr val="5e9eff">
                  <a:alpha val="80392"/>
                </a:srgbClr>
              </a:gs>
              <a:gs pos="50000">
                <a:srgbClr val="ffebfa"/>
              </a:gs>
              <a:gs pos="100000">
                <a:srgbClr val="5e9eff">
                  <a:alpha val="8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20000" y="60944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250920" y="5877000"/>
            <a:ext cx="2160360" cy="790560"/>
          </a:xfrm>
          <a:prstGeom prst="flowChartAlternateProcess">
            <a:avLst/>
          </a:prstGeom>
          <a:gradFill rotWithShape="0">
            <a:gsLst>
              <a:gs pos="0">
                <a:srgbClr val="5e9eff">
                  <a:alpha val="80392"/>
                </a:srgbClr>
              </a:gs>
              <a:gs pos="50000">
                <a:srgbClr val="ffebfa"/>
              </a:gs>
              <a:gs pos="100000">
                <a:srgbClr val="5e9eff">
                  <a:alpha val="8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609300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12000" y="907920"/>
            <a:ext cx="2879640" cy="1657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 rot="5400000">
            <a:off x="-1800360" y="2457360"/>
            <a:ext cx="5183280" cy="93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bfa"/>
                    </a:gs>
                    <a:gs pos="100000">
                      <a:srgbClr val="5e9eff"/>
                    </a:gs>
                  </a:gsLst>
                  <a:lin ang="8100000"/>
                </a:gradFill>
                <a:latin typeface="Arial"/>
              </a:rPr>
              <a:t>Верно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bfa"/>
                  </a:gs>
                  <a:gs pos="100000">
                    <a:srgbClr val="5e9eff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1197000"/>
            <a:ext cx="1008000" cy="936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6804000" y="5877000"/>
            <a:ext cx="2160720" cy="790560"/>
          </a:xfrm>
          <a:prstGeom prst="flowChartAlternateProcess">
            <a:avLst/>
          </a:prstGeom>
          <a:gradFill rotWithShape="0">
            <a:gsLst>
              <a:gs pos="0">
                <a:srgbClr val="5e9eff">
                  <a:alpha val="80392"/>
                </a:srgbClr>
              </a:gs>
              <a:gs pos="50000">
                <a:srgbClr val="ffebfa"/>
              </a:gs>
              <a:gs pos="100000">
                <a:srgbClr val="5e9eff">
                  <a:alpha val="8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91280" y="609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250920" y="5877000"/>
            <a:ext cx="2160360" cy="790560"/>
          </a:xfrm>
          <a:prstGeom prst="flowChartAlternateProcess">
            <a:avLst/>
          </a:prstGeom>
          <a:gradFill rotWithShape="0">
            <a:gsLst>
              <a:gs pos="0">
                <a:srgbClr val="5e9eff">
                  <a:alpha val="80392"/>
                </a:srgbClr>
              </a:gs>
              <a:gs pos="50000">
                <a:srgbClr val="ffebfa"/>
              </a:gs>
              <a:gs pos="100000">
                <a:srgbClr val="5e9eff">
                  <a:alpha val="8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609300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7:45:07Z</dcterms:created>
  <dc:creator>Admin</dc:creator>
  <dc:description/>
  <dc:language>en-US</dc:language>
  <cp:lastModifiedBy>Microsoft </cp:lastModifiedBy>
  <dcterms:modified xsi:type="dcterms:W3CDTF">2016-03-29T17:12:18Z</dcterms:modified>
  <cp:revision>8</cp:revision>
  <dc:subject/>
  <dc:title>Слайд 1</dc:title>
</cp:coreProperties>
</file>